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B14-C8F6-4882-ADA7-7AA17914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A3B-1A40-4E55-AF24-84952AD3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38EE1-16AB-4FA6-85E3-21D0D8CF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D8449-B7D7-4DA9-B9AF-C29C1590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6B97A-D15A-486E-B430-322C790B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6DCB5-773C-4992-BA0D-508A6F22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FC820-4FF0-4CB6-AB02-1E0D7AD1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00F51-D16A-423E-AD52-210A5CC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14BEE-B7C8-4B12-B1BA-4B19E9C0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78DA2-1AFC-46C6-AC04-BC15C67C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C93ED-3F01-478F-B26B-5EDBCAB5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3AE73-04A9-4FD5-ABE6-EEB44A4B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620-1281-4342-AE12-9A2A962C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2FA76-4C93-4ED6-9879-502BCA94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2D298-C8BC-4D9B-9415-713786A1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D3CC0-C3C5-4288-BCF8-E26FB55B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6965A-D7F5-466C-8009-747943D5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4DA61-544C-4A85-9472-5315808D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65837-F848-495C-AFA3-032DF91B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7C5DA-79C7-46E7-9CCC-2557A39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794A0-A960-4A36-87CF-821E43CE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94826-C4BA-4F9C-BF31-58CB87CE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6ECD9-7559-47A7-B1E4-3F4478B5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025-BB53-4407-BEC1-9985D420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444DE-B5E7-4945-8053-581E84D2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D6ED3-EA2B-4421-93FA-172AB224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26D2B-955E-44CD-BD32-0EE7EA6D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D6B60-F6E7-4A9F-8B33-973EF07E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7BF8B-5E3B-4791-ACAE-4A6C43F0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2B948-6C07-490B-8A65-C724BD97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303F5-0C0E-436F-9708-EB18078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8398D-DB6B-4C47-9A48-D695CF8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9FA6F-A11E-499F-A11B-EA13039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D85BE-CACF-48CD-99F5-2E3172B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5D35-666D-45D9-B6F7-5A6D26C8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DA1F6-31E2-4079-9710-BA42EF4F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36A6F-E463-42BA-B978-6E61900C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BC402-A689-4279-936F-7783218D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15D0B-440B-40A0-B793-74550013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68F77-8F3A-4EAA-9899-FACE93DA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B6888-5685-441E-B500-14AF3F3B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80E91-AF74-4019-83AF-338EA14D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4F12F-2C94-415A-A1C2-6F73993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3BA3A-C00E-4320-8565-BE959D57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99270-7EA4-434C-B72F-AFF01866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B388-90E9-4075-B5E1-D2F6B5F8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35453-A089-4B33-A840-F4F79874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B3C40-B60D-490A-B494-7AB99ED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C6640-228C-4D99-9D3C-20854FE6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60C38-B604-440B-BF8E-B8210455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F7F0A-B7A8-419A-90C2-83CDD550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7339-3266-4F36-908E-DEEC9FF5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A81D-3302-4F4D-9D1A-69492C83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B3C7-65DB-4548-B998-2D3CFC72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7C8F-A51F-4EEE-870C-49B3291A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A27F-E939-4277-A856-B7906360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484-9570-4742-AEDB-A7C647B0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A949-C24A-4E7D-8128-371ACF66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79D9-975C-4BEA-8F52-216CB23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F79D-0485-4C56-A781-FC096C6D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A671-DAE7-4CB3-A07F-F0A0C903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3942-A157-4102-B87E-F50E09B4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757E-18F6-4D24-99D6-78659C39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71BD-B333-46D0-9312-B61E8FFE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C26C-CC12-40EB-A95C-DF05478D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A795-948B-41F8-A1CC-16FD5903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129D-87D1-4C18-8F68-15E139F7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D37-416F-416D-B63F-DE16CE6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2796-5879-4720-B03B-5178969A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9521E-DA7C-46A6-B24F-BD316EA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B625-EC03-4B2F-90D0-86A4AFA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81CD1-CE1D-4EE5-A817-E231826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6087-6F10-42D0-B924-0889A001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AB3C-61CD-4647-AA0E-74AD34A8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226C-B8F8-4E67-A04F-2185C7E2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2ACD-2A82-4F73-8F1B-C9BC798E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3899-FFCD-498A-974B-21482978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15B4D-AFCB-4B6A-8908-6C244015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653-C22E-42D7-8051-05DED1D8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BEA9-DDA7-46C4-A212-C9D5CE37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CCAF-3B32-4A2D-941D-B0084F91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D680C-12A8-4A16-84E3-2805114E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1358E-75EE-4FA7-9609-C36B05A5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C3711-DE0B-498A-B8B6-9494F5A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6C879-AF05-43BF-BC60-DF85A97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642A-91AC-4A05-8737-F8E23147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0EB20-37D2-4A83-B95D-D3FCB6C8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7DA8E-C19A-4022-9FAB-84EA2CB1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DCF9-55F9-4A8D-BE46-C306EA53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5CA-A5AA-46F0-9980-74885823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8440-3ED4-495C-A0D3-465C148F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C1412-8158-41D9-8181-CF84D09D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1B8E-F26C-415C-8CC5-4FFD888F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8718-A3A0-4FF2-80A8-993799B1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E0CE-029E-4875-BF49-9A68A2A1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92A43-D4AF-42DB-9F4F-6360D402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BC9B4-66B1-459A-9A98-574DC4FC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2B284-92F8-4B6B-9FC8-AD8C7E80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42C36-44F0-4FAB-BBBE-F27E4A75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75E83-56E3-48E8-BEDB-94AD27DD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117-78E7-4C91-B58B-F88142DB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EDB4B-1ABE-4A0A-BFB1-52ABAA4A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EA0E3-FEE6-4274-B70D-421BE34E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F9072-CCC2-41AB-B78F-41F382E9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7635D-5B21-4FC8-84B3-E0FCC28F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FFC8-99C5-4BD3-86E5-7E9B87BB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A0ECA-CE56-4AFD-9681-AC3F29AB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81F6-7BF4-43A3-ADFB-B3DAE848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C5AE8-E2ED-4DA4-A32F-285C0E2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2277C-1D05-44BC-A1C8-3636D63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A174-83E2-4B04-9391-C411551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089-86DB-4375-92CD-D356DFA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5C6B3-7ED9-4642-B488-658AFEFF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C4341-8845-414F-B51E-327A07D4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4320-CFAF-40EF-9C00-BFA36F8D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456F1-9DCC-4A2A-ACEE-7415AED4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198E1-CCC2-472B-AFC8-09BF8A97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CCC7E-6237-4887-83E1-BFFC32EE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823C-7141-4919-81CF-34C87F17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522D-D8C3-46BE-BDF7-286DF027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FF19F-5836-475C-8797-2FB93329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F82E4-9075-48DF-8A17-93538223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C3E-B97D-4342-BD79-53123D12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DF9DB-1C6B-44B1-B3AC-581694A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3A59-55BA-4072-A766-DA4DA4CE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67B0B-5132-412B-89A1-4E668530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B09B1-8EB9-4DB4-86FA-2F66CFD2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95B87-9A9C-4997-A582-FB882EFD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03DAA-464B-4E90-8F80-C9EEA029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2EA9-39E7-47BC-AD69-93147AE6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7A18E-21A5-4EC2-8EEE-6C50E90B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04954-F50D-43CB-9741-9638ADFF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B95E6-96AF-4417-977C-EC62472B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D00-1628-41E8-BACF-EF22150E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7DD8C-BC6F-4962-92D1-429B6080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47FF2-7E99-421E-8126-190E958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0470F-94ED-4632-AC93-10191799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93178-E3FF-4566-A318-5BCA3344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06DF4-328E-49DE-B61B-F7D03FBA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9FDB8-8F26-4EEF-8F85-6B2BF421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D8F76-748D-41BB-BDFC-D204C5A8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E28AA-E4DE-4715-B20D-64B048D1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326CB-C6C4-46E4-B027-EDD4AA8D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FEA8C-1443-46E2-8BE1-C1BF8FCE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61DF-A32E-4795-936F-B6A5ADD3D2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1FF9-D890-4BAB-9779-CF55E4F65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FD2D-7F18-4F0E-8B25-DC8550EDFB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5E22-F601-49A8-AF60-92BCE56C2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4DA1-97F5-4B7F-AF89-78FF38B1C8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7ED8-AF58-4C33-A1FB-4C5B3391E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11EF-EFE4-47EE-BA10-F5DA98FB6B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025E-928A-48CD-A1FC-014D5451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A95A-CAFF-4CD1-A6AB-D3EBA9B36B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8B65-4784-4903-A11D-6DF517DA2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9558-6E89-47A6-B8D9-A79BA6FEE5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9EFA-F2F5-4FE5-AA9B-0DD147FA6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4BE6-F710-4335-BB10-36BD4E0C44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156-5938-4ACF-97A5-D001380FE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7E8E-CE4C-4C67-B7A8-8DC0F646DC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A773-5835-4A54-ABDC-4B7EDB617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D16E-7B64-4C77-A4FF-C52F3D9284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012F-2453-459E-9E93-68CE97EEE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A25F-6DC9-4D52-B150-F41D7A6A49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5233-6919-4A36-B538-A9A4508DD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5E4F-11B4-41B3-981F-0A6AB0C465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05FD-1AE2-435C-B589-230DC85CD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01EC-6F9D-4151-AE08-9D5D8D6E41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6C88-2DDB-4327-904E-66D487A6C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91"/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92"/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01"/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102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103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104"/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05"/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106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107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108"/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rw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rwin’s Pigeon-Breeding experiment is a form of this type of Selection and helped him form his ideas about Natural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Artificial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a heritable change over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what Natural Selection act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Genetic Varia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mechanism for Chang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urvival and Reproduction of the organisms that are genetically best adapted to the environment is best described a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Natural Sele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turally selected, favorable traits are passed on by th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ge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name of the ship that Darwin sailed around on the world making observations of the natural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are the 4 Components of Natural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. Genetic Variation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.Overproduction of Offspring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.Struggle for Existenc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. Survival and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NA, RNA, and amino acid similarities are an example of this type of evidence for ev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biochemic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whale forelimb, a bird wing, and a human arm are examples of these struct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homologous struc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t this level of development a human, a pig, and a chicken have similar structures such as tails and Pharyngeal Pou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an embry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remnants of a pelvic bone in a whale skeleton is an example of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vestigial struc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the HMS Beag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physiological adaptation which serves as a form evidence that species change over time…and it can be directly observed in the la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bacterial resistance to antibiotics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(Physiological Adap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type of selection that occurs when an average trait is favo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stabiliz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term that describes when a physical barrier divides a popul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geographic iso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occurs when an ancestor species evolves into an array of species to fit various niches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Darwin’s Finch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daptive Ra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describes an organism that has multiple pairs or an abnormal set of chromoso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polyploid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set of islands on which Darwin made observations crucial to the development of his the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pattern of evolution occurs when two unrelated species evolve similar characteristics due to environmental pressu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convergent 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ne species of Boobies mates in the Spring and another mates in the Fall.  What is this an example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reproductive Iso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equation can measure the amount of natural selection in a popul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the Hardy-Weinberg Princip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Gradualism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is one theory that describes that rate of what __________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Speci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vement of Genes in and out of a gene pool is referred to as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Gene F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are the Galapagos Isla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tation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Gene Flow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netic Drift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mechanisms for…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title of Darwin’s book which detailed his theory of evolution by natural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Origin of Species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the idea that all species share one or more common ancesto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Descent with Modific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ashley_borden</cp:lastModifiedBy>
  <dcterms:modified xsi:type="dcterms:W3CDTF">2010-02-26T15:31:14Z</dcterms:modified>
  <cp:revision>46</cp:revision>
  <dc:subject/>
  <dc:title>Blank Jeopardy</dc:title>
</cp:coreProperties>
</file>